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A02B-CD6E-482D-A1CC-502063BC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0968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854-6956-4B91-9534-16A59077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096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8964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0FB-D630-48BE-8315-C27BEFDB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7364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3796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096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7364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3796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410-BEBC-4175-997A-1501C321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A6B4-0A98-4ADB-B32B-B8812003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09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E8B9-201A-497F-986D-A4AC3275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DF7A-644F-4408-9A75-F0CA95F6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2921-F242-4D42-93AA-13A94935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AF9F-2462-46AB-92C7-606F87CF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057040" y="22856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77D5-198D-4273-9C06-8186D836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096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FB38-5AFF-4820-B32E-E82C126F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09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B8A-DAE7-4BD0-BD8A-55E0361D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48964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AFF6-A0A3-44BA-9EA1-98150BB8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68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6A3A-13F6-4F82-B4DE-5D6C48E9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0968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F567-58FB-4D36-B55C-64EE1E49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096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48964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D3C5-C776-4558-9A74-9E917D73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7364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3796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096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7364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3796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B4B8-74DE-41D0-9582-2DF08F91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2C5-0E06-47FF-9B85-7A52CABC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7FD-0E2C-4744-B09A-3C72284A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51F0-E912-49A8-91BB-296BA1B3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7040" y="22856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D604-59C2-47BC-8CBD-F40DB755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096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B7C4-ABA6-4BE1-B98C-E74195E4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8964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BA2-6297-40B3-B7D9-AB1B5F34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096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8964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0968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6B58-F9E5-476F-A5F8-5EEE3E26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0932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7191-62B7-49DD-BD55-7DEC9DA2F0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A42E-56E0-4C27-8324-33EA183BE2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09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8:48Z</dcterms:modified>
  <cp:revision>48</cp:revision>
  <dc:subject/>
  <dc:title>幻灯片 1</dc:title>
</cp:coreProperties>
</file>